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E48C-5F7F-4A00-9FD7-7E1B9896C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4376-AA4D-48B3-A2F0-C98191D7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9C22-DCC5-49C5-BBC1-9FBF34304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9EC0-7525-48BE-A6FC-A1496727D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4883-A651-45E7-81CC-514BCE33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C43B-CE96-4371-B802-2E3768E5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19E4-3402-4164-9512-3CE04F90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052D-0920-4036-87D3-9EAA0D09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0333-0BB8-4774-A6E0-26838FCD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8CB6-47E1-42B0-997C-33B41FAA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C140-2C01-4A10-BD6A-CB1C5C92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A4E9-1BA0-43EB-BD8D-826B99A1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32E7-2029-4231-9C38-E1BF6C2C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7BEE-0A7D-42C5-98FF-33EBDE25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FFFC-59E4-4D5C-A66C-30AD2096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0F3B-A521-427B-AAEC-65FBA809F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CA0A-569A-44F9-A97E-034F491E2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746F-B389-47DF-8085-5B643084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55FC-BE43-4437-8147-933A2855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C340-DEE3-4E90-8399-C8184513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FBD4-AACA-4E65-8AD3-FDC693FB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762A-2332-4899-9C11-BA39F1B5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069D-CE9D-4E98-A01A-32C28A1B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3F84-81DF-4045-B2CB-714D341D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1967-C862-43A5-B30A-B6E6C24FCE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A745-D5A7-453D-96F8-9396503E4F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Основы логик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7238880" cy="3962160"/>
          </a:xfrm>
          <a:prstGeom prst="rect">
            <a:avLst/>
          </a:prstGeom>
          <a:solidFill>
            <a:srgbClr val="9d9c81"/>
          </a:solidFill>
          <a:ln cap="sq" w="12600">
            <a:solidFill>
              <a:srgbClr val="000000"/>
            </a:solidFill>
            <a:miter/>
          </a:ln>
          <a:effectLst>
            <a:outerShdw dist="197537" dir="2700000" blurRad="0" rotWithShape="0">
              <a:srgbClr val="614020"/>
            </a:outerShdw>
          </a:effectLst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 Narrow"/>
              </a:rPr>
              <a:t>Автор: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ергее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Евгений Викторович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МОУ СОШ №4 г. Миньяр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Челябинской област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rgeev73@mail.ru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ttp://shk4-minyar.ucoz.ru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ример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е: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«Буква «А» – гласная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стинно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е: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«Компьютер был изобретен в середине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XIX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 века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жно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Сложные высказыв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остые высказывания могут быть объединены в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сложны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с помощью союзов «и» или «или», с помощью частицы «не» и др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стинность высказывани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Простых: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 результате соглашений на основе здравого смысл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Сложных: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 результате вычислений по формулам алгебры высказываний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Упражнени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Какой длины эта лента?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Прослушайте сообщение!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Делайте утреннюю зарядку!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Назовите устройства ввода/вывода информации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Кто отсутствует?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Париж – столица Англии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Число 11 является простым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4 + 5 = 10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Без труда не вытащишь и рыбку из пруда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Некоторые медведи живут на севере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Все медведи – бурые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Чему равно расстояние от Москвы до Питера?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Умозаключения 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Умозаключения – это форма мышления, с помощью которой из одного или нескольких высказываний (посылок) может быть получено новое суждение (заключение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сылками могут быть только истинные высказывания, иначе заключение может быть ложным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ример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ано высказывание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«Все углы равнобедренного треугольника равны»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лучить высказывани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«Этот треугольник – равносторонний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утем умозаключений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Решени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се углы равны,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то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 качестве основания можно выбрать любую сторону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усть основание – сторона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огда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усть основание – сторона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огда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ледовательно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Треугольник равносторонний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ка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гика – наука о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формах мышл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, учение о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пособах рассуждений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доказательств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гика позволяет строить абстрактные модели реальных объектов, не отвлекаясь на их содержание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ка, как наука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ервые учения о способах и формах мышления, рассуждений и доказательств зародились на Древнем Востоке (Индия и Китай)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сновоположник современной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формальной логики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Аристотель, т.к. он впервые отделил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форму мышл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от его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содержа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Формы мышле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Мышление осуществляется через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понят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высказыва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(суждения, утверждения) и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умозаключ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оняти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Поняти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форма мышления, фиксирующая основные существенные признаки объекта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меет две стороны: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содержани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и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объем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01800"/>
                </a:solidFill>
                <a:latin typeface="Arial Narrow"/>
              </a:rPr>
              <a:t>Содержание </a:t>
            </a: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и</a:t>
            </a:r>
            <a:r>
              <a:rPr b="1" i="1" lang="ru-RU" sz="4400" spc="-1" strike="noStrike">
                <a:solidFill>
                  <a:srgbClr val="301800"/>
                </a:solidFill>
                <a:latin typeface="Arial Narrow"/>
              </a:rPr>
              <a:t> объем</a:t>
            </a: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 понятия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одержание понятия составляет совокупность существенных признаков объекта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Для раскрытия содержания понятия необходимо и достаточно перечислить все качества объекта, по которым его можно однозначно идентифицировать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бъем понятия – количество объектов, на которое распространяются указанные свойств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ример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одержание понятия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мпьютер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ройство для автоматизированной обработки информаци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строено на основе микропроцессор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меет устройства ввода/вывод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бъем понятия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мпьютер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миллиарды единиц компьютерной техники по всему миру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Высказывание 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Форма мышления, выражающая формулировку своего понимания мира, в котором либо что-то утверждается, либо отрицается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троится на основе понятий и выражается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только повествовательным предложением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Высказывание может быть либо истинным, либо ложным 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Если связь понятий, на которых построено высказывание, правильно отражают свойства и отношения реальных вещей, то такое высказывание истинно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е, противоречащее реальной действительности – ложно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ев Евгений</cp:lastModifiedBy>
  <dcterms:modified xsi:type="dcterms:W3CDTF">2010-09-29T14:50:2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